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2BA6-D7D2-4C22-9142-EC475C89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5CE-289F-4735-AC8B-660B2CDF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420-4711-4B71-BD80-1EE97651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7CC-1C0D-4C90-91EC-F26783F9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4AF2-39BD-4B0F-B0B5-93D0022A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2A3B-E08E-4A6C-BE2E-0DE967E8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6F2-E85E-4285-AA84-319DD131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2954-457A-4F7F-BB5E-2F864F78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DDA-0DDA-45A1-87A8-E3878BBB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F955-F309-4EB1-8388-43603B51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DAF-BA91-4D41-8223-A83FFD9F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5E5-38F0-403B-BB35-CF70BA7A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FD1A-046C-41A8-9842-F318C83007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E2AB-EC12-4D3E-8CE8-6907859AE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-BYISV9mwo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520" y="380520"/>
            <a:ext cx="4495680" cy="32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Kill A Mockingbi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23920" y="2742840"/>
            <a:ext cx="3048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ackground PowerPoint and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450_mockingbird.jpg"/>
          <p:cNvPicPr/>
          <p:nvPr/>
        </p:nvPicPr>
        <p:blipFill>
          <a:blip r:embed="rId1"/>
          <a:stretch/>
        </p:blipFill>
        <p:spPr>
          <a:xfrm>
            <a:off x="4343400" y="3711600"/>
            <a:ext cx="4800600" cy="3146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mockingbird.jpg"/>
          <p:cNvPicPr/>
          <p:nvPr/>
        </p:nvPicPr>
        <p:blipFill>
          <a:blip r:embed="rId2"/>
          <a:stretch/>
        </p:blipFill>
        <p:spPr>
          <a:xfrm>
            <a:off x="0" y="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www.jpg"/>
          <p:cNvPicPr/>
          <p:nvPr/>
        </p:nvPicPr>
        <p:blipFill>
          <a:blip r:embed="rId1"/>
          <a:stretch/>
        </p:blipFill>
        <p:spPr>
          <a:xfrm>
            <a:off x="76320" y="47520"/>
            <a:ext cx="8991360" cy="66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7d4ca7fbk-americana.jpg"/>
          <p:cNvPicPr/>
          <p:nvPr/>
        </p:nvPicPr>
        <p:blipFill>
          <a:blip r:embed="rId1"/>
          <a:stretch/>
        </p:blipFill>
        <p:spPr>
          <a:xfrm>
            <a:off x="3790800" y="3352680"/>
            <a:ext cx="5353200" cy="32450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ccord Heavy SF"/>
              </a:rPr>
              <a:t>Jim Crow La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 partner, look over the Jim Crow Laws and put three of them into your own word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 them with the class (in your own word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swer numbers 8 through 10 on your workshe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black&amp;whim.jpg"/>
          <p:cNvPicPr/>
          <p:nvPr/>
        </p:nvPicPr>
        <p:blipFill>
          <a:blip r:embed="rId2"/>
          <a:stretch/>
        </p:blipFill>
        <p:spPr>
          <a:xfrm>
            <a:off x="0" y="3352680"/>
            <a:ext cx="373392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ccord Heavy SF"/>
              </a:rPr>
              <a:t>etique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1218960"/>
            <a:ext cx="4724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lacks were expected to refer to whites with titles of superiority like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BOS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SI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CAPTIA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MIS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MRS.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ites referred to blacks using derogatory terms like BOY, LADY, GIRL and the N wor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lacks were expected to lets whites walk of the sidewalk and signs reading things like “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egroes and Dogs Not Allowe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 were comm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250px-1943_Colored_Waiting_Room_Sign.jpg"/>
          <p:cNvPicPr/>
          <p:nvPr/>
        </p:nvPicPr>
        <p:blipFill>
          <a:blip r:embed="rId1"/>
          <a:stretch/>
        </p:blipFill>
        <p:spPr>
          <a:xfrm>
            <a:off x="5110200" y="-36360"/>
            <a:ext cx="4033800" cy="4227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JimCrowInDurhamNC.jpg"/>
          <p:cNvPicPr/>
          <p:nvPr/>
        </p:nvPicPr>
        <p:blipFill>
          <a:blip r:embed="rId2"/>
          <a:stretch/>
        </p:blipFill>
        <p:spPr>
          <a:xfrm>
            <a:off x="5110200" y="4114800"/>
            <a:ext cx="4033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ccord Heavy SF"/>
              </a:rPr>
              <a:t>Harper L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orn Nelle Harper Lee, April 28, 192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ew up during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the Great Depre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ew up in Monroeville,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Alabam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in the heart of the South, where racial tension was hig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ad was a lawy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ther’s maiden name wa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Fin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badham213.jpg"/>
          <p:cNvPicPr/>
          <p:nvPr/>
        </p:nvPicPr>
        <p:blipFill>
          <a:blip r:embed="rId1"/>
          <a:stretch/>
        </p:blipFill>
        <p:spPr>
          <a:xfrm>
            <a:off x="5943600" y="0"/>
            <a:ext cx="2973240" cy="3821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harper-lee.jpg"/>
          <p:cNvPicPr/>
          <p:nvPr/>
        </p:nvPicPr>
        <p:blipFill>
          <a:blip r:embed="rId2"/>
          <a:stretch/>
        </p:blipFill>
        <p:spPr>
          <a:xfrm>
            <a:off x="5943600" y="3200400"/>
            <a:ext cx="3033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ccord Heavy SF"/>
              </a:rPr>
              <a:t>The Scottsboro T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761760"/>
            <a:ext cx="91440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1931, a fight between white and black teen boys occurred on a train between Tennessee and Alabam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wo girls on a train, one well-known prostitute and one minor, were accused of violating the Mann Act (crossing state lines for prostitution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immediately accused all nine black men of rap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vprb.jpg"/>
          <p:cNvPicPr/>
          <p:nvPr/>
        </p:nvPicPr>
        <p:blipFill>
          <a:blip r:embed="rId1"/>
          <a:stretch/>
        </p:blipFill>
        <p:spPr>
          <a:xfrm>
            <a:off x="2247840" y="3695760"/>
            <a:ext cx="4496040" cy="308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SB_BATES.jpg"/>
          <p:cNvPicPr/>
          <p:nvPr/>
        </p:nvPicPr>
        <p:blipFill>
          <a:blip r:embed="rId2"/>
          <a:stretch/>
        </p:blipFill>
        <p:spPr>
          <a:xfrm>
            <a:off x="228600" y="3443400"/>
            <a:ext cx="1981080" cy="3338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SB_PRICE.jpg"/>
          <p:cNvPicPr/>
          <p:nvPr/>
        </p:nvPicPr>
        <p:blipFill>
          <a:blip r:embed="rId3"/>
          <a:stretch/>
        </p:blipFill>
        <p:spPr>
          <a:xfrm>
            <a:off x="6781680" y="3503520"/>
            <a:ext cx="221004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ccord Heavy SF"/>
              </a:rPr>
              <a:t>The Scottsboro T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914400"/>
            <a:ext cx="37339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ight of the nine boys were sentenced 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a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spite the fact that they were not even all in the same rail 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eals continued for years and only two were acquit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SCOTTS.jpg"/>
          <p:cNvPicPr/>
          <p:nvPr/>
        </p:nvPicPr>
        <p:blipFill>
          <a:blip r:embed="rId1"/>
          <a:stretch/>
        </p:blipFill>
        <p:spPr>
          <a:xfrm>
            <a:off x="3726000" y="990720"/>
            <a:ext cx="5418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23920" y="2743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ccord Heavy SF"/>
              </a:rPr>
              <a:t>The Great Depre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erspending in the 1920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ock Market crash of 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sident Franklin D. Roosevelt and the New D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rld War I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redit-cards.jpg"/>
          <p:cNvPicPr/>
          <p:nvPr/>
        </p:nvPicPr>
        <p:blipFill>
          <a:blip r:embed="rId1"/>
          <a:stretch/>
        </p:blipFill>
        <p:spPr>
          <a:xfrm>
            <a:off x="0" y="0"/>
            <a:ext cx="4343400" cy="290196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152280" y="2895480"/>
            <a:ext cx="4191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 lik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f Mice and M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 situation presented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inderella M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people in Alabama suffered because of America’s econom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ccord Heavy SF"/>
              </a:rPr>
              <a:t>Racial Segreg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914040"/>
            <a:ext cx="4648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uary 1, 1863: Lincoln issued th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Emancipation Proclam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hich declared freedom for all slav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nded to weaken the South’s power during the U.S. Civil W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though slaves were “free,” black people were affected by state laws that prevented equ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se laws were known as the Jim Crow Law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negro.bmp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5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wwww.jpg"/>
          <p:cNvPicPr/>
          <p:nvPr/>
        </p:nvPicPr>
        <p:blipFill>
          <a:blip r:embed="rId2"/>
          <a:stretch/>
        </p:blipFill>
        <p:spPr>
          <a:xfrm>
            <a:off x="4800600" y="377208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ttttra.bmp"/>
          <p:cNvPicPr/>
          <p:nvPr/>
        </p:nvPicPr>
        <p:blipFill>
          <a:blip r:embed="rId1"/>
          <a:stretch/>
        </p:blipFill>
        <p:spPr>
          <a:xfrm>
            <a:off x="5029200" y="-152280"/>
            <a:ext cx="4267080" cy="2716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ccord Heavy SF"/>
              </a:rPr>
              <a:t>Plessy vs. Fergu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trengthened the already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pular Jim Crow Law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 1892, 30-year-ol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Homer Plessy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as jailed for sitting in a “white” section of a railroad c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lessy was 1/8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black, but under Louisiana law, he was considered “colored” and was supposed to ride in the “colored car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lessy argued that his arrest was a violation of the Constit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erguson, the judge, found Plessy GUILTY of refusing the leave the “white car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ccord Heavy SF"/>
              </a:rPr>
              <a:t>Plessy vs. Fergus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1142640"/>
            <a:ext cx="4800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ter an appeal, the case went to the Supreme Court, which upheld the decision and perpetuated the concept of “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eparate but equ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enable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chools, courthouses, libraries, hotels, theaters, restaurants, public transport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etc., to segregate “coloreds” from “whites.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segregation.jpg"/>
          <p:cNvPicPr/>
          <p:nvPr/>
        </p:nvPicPr>
        <p:blipFill>
          <a:blip r:embed="rId1"/>
          <a:stretch/>
        </p:blipFill>
        <p:spPr>
          <a:xfrm>
            <a:off x="4811760" y="0"/>
            <a:ext cx="4390920" cy="4038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segregation2.jpg"/>
          <p:cNvPicPr/>
          <p:nvPr/>
        </p:nvPicPr>
        <p:blipFill>
          <a:blip r:embed="rId2"/>
          <a:stretch/>
        </p:blipFill>
        <p:spPr>
          <a:xfrm>
            <a:off x="4811760" y="3733920"/>
            <a:ext cx="4332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3" descr="segregated.jpg"/>
          <p:cNvPicPr/>
          <p:nvPr/>
        </p:nvPicPr>
        <p:blipFill>
          <a:blip r:embed="rId1"/>
          <a:stretch/>
        </p:blipFill>
        <p:spPr>
          <a:xfrm>
            <a:off x="228600" y="609480"/>
            <a:ext cx="873612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ccord Heavy SF"/>
              </a:rPr>
              <a:t>Jim Crow La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2280" y="1295280"/>
            <a:ext cx="6019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term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Jim Crow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mes from the minstrel show song “Jump Jim Crow” written in 1828 and performed by Thomas Dartmouth “Daddy” Rice, a white English migrant to the U.S. and the first popularizer of blackface performa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caricature of a shabbily dressed rural black named “Jim Crow” became a standard character i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minstrel show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180px-Sich_a_Getting_Up_Stairs,_T__D__Rice.jpg"/>
          <p:cNvPicPr/>
          <p:nvPr/>
        </p:nvPicPr>
        <p:blipFill>
          <a:blip r:embed="rId1"/>
          <a:stretch/>
        </p:blipFill>
        <p:spPr>
          <a:xfrm>
            <a:off x="6095880" y="685800"/>
            <a:ext cx="289584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225px-Jimcrow.jpg"/>
          <p:cNvPicPr/>
          <p:nvPr/>
        </p:nvPicPr>
        <p:blipFill>
          <a:blip r:embed="rId1"/>
          <a:stretch/>
        </p:blipFill>
        <p:spPr>
          <a:xfrm>
            <a:off x="0" y="0"/>
            <a:ext cx="4876920" cy="6978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oons.gif"/>
          <p:cNvPicPr/>
          <p:nvPr/>
        </p:nvPicPr>
        <p:blipFill>
          <a:blip r:embed="rId2"/>
          <a:stretch/>
        </p:blipFill>
        <p:spPr>
          <a:xfrm>
            <a:off x="4314960" y="304920"/>
            <a:ext cx="4829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ccord Heavy SF"/>
              </a:rPr>
              <a:t>Jim Crow Ly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e, listen, all you girls and boys, I'm just from Tuckahoe; I'm going to sing a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heel about, and turn about, and do just so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very time I wheel about, I jump Jim Crow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ttle song, My name's Jim Crow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 went down to the river, I didn't mean to stay, But there I saw so many girls, I couldn't get away. I'm roaring on the fiddle, and down in old Virginia, They say I play the scientific, like master Paganini, I cut so many monkey shines, I dance the galoppade; And when I'm done, I rest my head, on shovel, hoe or spad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 met Miss Dub one day, I give her such a buss [kiss]; And then she turn and slap my face, and make a mighty fuss. The other girls they begin to fight, I told them wait a bit; I'd have them all, just one by one, as I thought fit. I whip the lion of the west, I eat the alligator; I put more water in my mouth, then boil ten loads of potatoes. The way they bake the hoe cake, Virginia never tire; They put the dough upon the foot, and stick them in the fi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Jim Crow So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22:57:43Z</dcterms:created>
  <dc:creator>Laura Cook</dc:creator>
  <dc:description/>
  <dc:language>en-US</dc:language>
  <cp:lastModifiedBy>Stuart White</cp:lastModifiedBy>
  <dcterms:modified xsi:type="dcterms:W3CDTF">2012-07-22T07:04:06Z</dcterms:modified>
  <cp:revision>38</cp:revision>
  <dc:subject/>
  <dc:title>To Kill A Mockingbird</dc:title>
</cp:coreProperties>
</file>